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wmf" ContentType="image/x-wmf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15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EE4D-CC14-44AB-9DCA-AFA3DD10C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RN: long lasting excitato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strictly selective (respond to a single compon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b050"/>
                </a:solidFill>
                <a:latin typeface="Arial"/>
              </a:rPr>
              <a:t>latency decreases, frequency increases with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PN: biphasic excitatory-inhibito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not selective (respond to several compon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fr-FR" sz="1200" spc="-1" strike="noStrike">
                <a:solidFill>
                  <a:srgbClr val="0070c0"/>
                </a:solidFill>
                <a:latin typeface="Arial"/>
              </a:rPr>
              <a:t>latency shorter, sensitivity higher than for 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0c0"/>
                </a:solidFill>
                <a:latin typeface="Arial"/>
              </a:rPr>
              <a:t>duration of excitation proportional to stim duration not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0c0"/>
                </a:solidFill>
                <a:latin typeface="Arial"/>
              </a:rPr>
              <a:t>inhibition does not code for stim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85E6-750E-4FCA-81D6-39DB89B9F79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or component (Z7-12:Ac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umulus 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or components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 glomeruli to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347F-BCF8-4586-A6AD-A86DA242D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01E-6D70-4C41-860B-06468A877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 by dis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ll levels, but specifically between levels and in the middle, difficult region, models are the glue to bring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&gt; 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sponse patterns identification and description (ex: +, -, +/-, -/+, +/-/+, etc.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heromonal principal compounds VS pheromonal blend, floral compoun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simultaneously recorded neurons (after spike-sorting) responding to 5 pulses of the pheromonal blend. (Puff duration: 200ms, Inter Stimulus Interval: 300ms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44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728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44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728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60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44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7280" y="18288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44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7280" y="3978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602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9560" y="397836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9560" y="18288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7836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3523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524240" cy="974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638600" y="6095880"/>
            <a:ext cx="2000160" cy="5907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7057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238880" y="5492880"/>
            <a:ext cx="1905120" cy="13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5492880"/>
            <a:ext cx="190512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2388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526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38600" y="6095880"/>
            <a:ext cx="2000160" cy="59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nformatics.sussex.ac.uk/%0Bresearch/pherosy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, specificity and rati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dles of the pheromone system in m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742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eroSys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962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.-P. Rosp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RA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962520"/>
            <a:ext cx="25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. Nowot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CNR @ U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gh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962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 Marti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1"/>
          <p:cNvSpPr/>
          <p:nvPr/>
        </p:nvSpPr>
        <p:spPr>
          <a:xfrm>
            <a:off x="1371600" y="380880"/>
            <a:ext cx="58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ask 1b: Population of pheromone-responsive 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9"/>
          <p:cNvSpPr/>
          <p:nvPr/>
        </p:nvSpPr>
        <p:spPr>
          <a:xfrm>
            <a:off x="142920" y="4254480"/>
            <a:ext cx="557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7162" t="31245" r="1993" b="21825"/>
          <a:stretch/>
        </p:blipFill>
        <p:spPr>
          <a:xfrm>
            <a:off x="1397160" y="3270240"/>
            <a:ext cx="6494400" cy="100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>
            <a:grayscl/>
          </a:blip>
          <a:srcRect l="0" t="22487" r="4020" b="50023"/>
          <a:stretch/>
        </p:blipFill>
        <p:spPr>
          <a:xfrm>
            <a:off x="1397160" y="4218120"/>
            <a:ext cx="6492600" cy="1171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3352680" y="3429000"/>
            <a:ext cx="270000" cy="1938240"/>
          </a:xfrm>
          <a:prstGeom prst="rect">
            <a:avLst/>
          </a:prstGeom>
          <a:solidFill>
            <a:srgbClr val="c0c0c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382760" y="338760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877160" y="3270240"/>
            <a:ext cx="31428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7924680" y="495288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888320" y="427500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923240" y="3755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7926480" y="340056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397160" y="5381640"/>
            <a:ext cx="679284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4164120" y="547704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ime 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19680" y="54482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245200" y="5448240"/>
            <a:ext cx="2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6535800" y="544824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2362320" y="316224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0 ng for 2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370160" y="40417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necteur droit avec flèche 26"/>
          <p:cNvCxnSpPr/>
          <p:nvPr/>
        </p:nvCxnSpPr>
        <p:spPr>
          <a:xfrm>
            <a:off x="4430520" y="4799160"/>
            <a:ext cx="1215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2" name="ZoneTexte 27"/>
          <p:cNvSpPr/>
          <p:nvPr/>
        </p:nvSpPr>
        <p:spPr>
          <a:xfrm>
            <a:off x="4559040" y="41562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Inhib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2513160" y="545940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321080"/>
                <a:tab algn="l" pos="86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6800" y="1676520"/>
            <a:ext cx="68468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im: Describe the response patterns of ORNs (antenna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d correlate them with those of PNs (antennal 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Investigators: D. Jarriault (PhD), J.-P. Rospars, S. A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00200" y="1828800"/>
            <a:ext cx="4648320" cy="3504960"/>
            <a:chOff x="1600200" y="1828800"/>
            <a:chExt cx="4648320" cy="3504960"/>
          </a:xfrm>
        </p:grpSpPr>
        <p:pic>
          <p:nvPicPr>
            <p:cNvPr id="197" name="Picture 3" descr=""/>
            <p:cNvPicPr/>
            <p:nvPr/>
          </p:nvPicPr>
          <p:blipFill>
            <a:blip r:embed="rId1"/>
            <a:stretch/>
          </p:blipFill>
          <p:spPr>
            <a:xfrm>
              <a:off x="1600200" y="1828800"/>
              <a:ext cx="464832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ZoneTexte 28"/>
            <p:cNvSpPr/>
            <p:nvPr/>
          </p:nvSpPr>
          <p:spPr>
            <a:xfrm>
              <a:off x="5033520" y="31968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ZoneTexte 29"/>
            <p:cNvSpPr/>
            <p:nvPr/>
          </p:nvSpPr>
          <p:spPr>
            <a:xfrm>
              <a:off x="3546720" y="26758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P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Connecteur droit avec flèche 30"/>
            <p:cNvCxnSpPr/>
            <p:nvPr/>
          </p:nvCxnSpPr>
          <p:spPr>
            <a:xfrm>
              <a:off x="3673800" y="3679200"/>
              <a:ext cx="14886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</p:cxnSp>
        <p:sp>
          <p:nvSpPr>
            <p:cNvPr id="201" name="ZoneTexte 31"/>
            <p:cNvSpPr/>
            <p:nvPr/>
          </p:nvSpPr>
          <p:spPr>
            <a:xfrm>
              <a:off x="3668400" y="3679200"/>
              <a:ext cx="123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crease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nsi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2490120"/>
              <a:ext cx="285840" cy="15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4160" y="5135400"/>
              <a:ext cx="142992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16200000">
            <a:off x="216360" y="3027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ike frequency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46400" y="5257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imulus Load [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09600" y="1828800"/>
            <a:ext cx="205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les 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o the mode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W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0"/>
          <p:cNvSpPr/>
          <p:nvPr/>
        </p:nvSpPr>
        <p:spPr>
          <a:xfrm>
            <a:off x="4724280" y="3032280"/>
            <a:ext cx="42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x pheromone has 3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are the glomeruli in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eromone-responsive neurons projec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2750"/>
          <a:stretch/>
        </p:blipFill>
        <p:spPr>
          <a:xfrm>
            <a:off x="1219320" y="3111480"/>
            <a:ext cx="2544480" cy="2463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2"/>
          <p:cNvSpPr/>
          <p:nvPr/>
        </p:nvSpPr>
        <p:spPr>
          <a:xfrm rot="20382600">
            <a:off x="2612520" y="3143160"/>
            <a:ext cx="1038240" cy="1785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53"/>
          <p:cNvSpPr/>
          <p:nvPr/>
        </p:nvSpPr>
        <p:spPr>
          <a:xfrm rot="20436600">
            <a:off x="3069360" y="49388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MGC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752480"/>
            <a:ext cx="7696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m: Describe the structure of the Macro-Glomerular Complex (M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. Couton (PhD), S. Anton, J.-P. Rosp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sk 1c: Projection of ORNs and MG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: MG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5766480" y="28591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5" descr="070808Z"/>
          <p:cNvPicPr/>
          <p:nvPr/>
        </p:nvPicPr>
        <p:blipFill>
          <a:blip r:embed="rId1"/>
          <a:srcRect l="9989" t="0" r="8999" b="0"/>
          <a:stretch/>
        </p:blipFill>
        <p:spPr>
          <a:xfrm>
            <a:off x="4087800" y="3057480"/>
            <a:ext cx="2016000" cy="2301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"/>
          <p:cNvPicPr/>
          <p:nvPr/>
        </p:nvPicPr>
        <p:blipFill>
          <a:blip r:embed="rId2"/>
          <a:srcRect l="18014" t="7372" r="58359" b="33578"/>
          <a:stretch/>
        </p:blipFill>
        <p:spPr>
          <a:xfrm>
            <a:off x="6858000" y="32004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32"/>
          <p:cNvSpPr/>
          <p:nvPr/>
        </p:nvSpPr>
        <p:spPr>
          <a:xfrm rot="13306800">
            <a:off x="8002080" y="3115800"/>
            <a:ext cx="182880" cy="362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e 50"/>
          <p:cNvGrpSpPr/>
          <p:nvPr/>
        </p:nvGrpSpPr>
        <p:grpSpPr>
          <a:xfrm>
            <a:off x="880920" y="3246480"/>
            <a:ext cx="2205360" cy="2041560"/>
            <a:chOff x="880920" y="3246480"/>
            <a:chExt cx="2205360" cy="2041560"/>
          </a:xfrm>
        </p:grpSpPr>
        <p:pic>
          <p:nvPicPr>
            <p:cNvPr id="219" name="Picture 9" descr="070821Rd1"/>
            <p:cNvPicPr/>
            <p:nvPr/>
          </p:nvPicPr>
          <p:blipFill>
            <a:blip r:embed="rId3"/>
            <a:srcRect l="27019" t="9765" r="11474" b="28613"/>
            <a:stretch/>
          </p:blipFill>
          <p:spPr>
            <a:xfrm>
              <a:off x="880920" y="3246480"/>
              <a:ext cx="22053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AutoShape 10"/>
            <p:cNvSpPr/>
            <p:nvPr/>
          </p:nvSpPr>
          <p:spPr>
            <a:xfrm rot="11827800">
              <a:off x="2861640" y="4444560"/>
              <a:ext cx="149040" cy="372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5"/>
          <p:cNvSpPr/>
          <p:nvPr/>
        </p:nvSpPr>
        <p:spPr>
          <a:xfrm>
            <a:off x="2813760" y="4073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57"/>
          <p:cNvSpPr/>
          <p:nvPr/>
        </p:nvSpPr>
        <p:spPr>
          <a:xfrm>
            <a:off x="2198880" y="34304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caly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58"/>
          <p:cNvSpPr/>
          <p:nvPr/>
        </p:nvSpPr>
        <p:spPr>
          <a:xfrm>
            <a:off x="2982240" y="4930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M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 rot="13306800">
            <a:off x="5568840" y="3074760"/>
            <a:ext cx="214560" cy="407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410080" y="2514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58600" y="2133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343040" y="24382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29080" y="1981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merul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 2: Organization and function of on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4"/>
          <p:cNvSpPr/>
          <p:nvPr/>
        </p:nvSpPr>
        <p:spPr>
          <a:xfrm>
            <a:off x="1645200" y="3352680"/>
            <a:ext cx="665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2a: Neuron types and their structure – func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2b2b2"/>
                </a:solidFill>
                <a:latin typeface="Calibri"/>
                <a:ea typeface="Arial"/>
              </a:rPr>
              <a:t>Task 2b: Amplification of the recept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2b2b2"/>
                </a:solidFill>
                <a:latin typeface="Calibri"/>
                <a:ea typeface="Arial"/>
              </a:rPr>
              <a:t>Task 2c: Response to temporally structured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752480"/>
            <a:ext cx="7315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IM: To understand the function of a singl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ader: CCNR Sus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a: Structure-function relations of antennal lobe neur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4792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 Elbanna, S. Anton, J.-P. Rosp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ims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 Describe pheromone-responding projection neuro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pheromone-responding local interneuro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.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injections to describe electrical properties of AL neurons (to build a HH 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9"/>
          <p:cNvGrpSpPr/>
          <p:nvPr/>
        </p:nvGrpSpPr>
        <p:grpSpPr>
          <a:xfrm>
            <a:off x="4267080" y="4343400"/>
            <a:ext cx="4586760" cy="779400"/>
            <a:chOff x="4267080" y="4343400"/>
            <a:chExt cx="4586760" cy="779400"/>
          </a:xfrm>
        </p:grpSpPr>
        <p:sp>
          <p:nvSpPr>
            <p:cNvPr id="235" name="Line 3"/>
            <p:cNvSpPr/>
            <p:nvPr/>
          </p:nvSpPr>
          <p:spPr>
            <a:xfrm>
              <a:off x="4267080" y="502920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305920" y="43434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>
              <a:off x="7848720" y="480060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7774920" y="48765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 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8308800" y="441936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758880" y="43434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N: Blend 0.1 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760320" y="541008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: Blend 1 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0"/>
          <p:cNvGrpSpPr/>
          <p:nvPr/>
        </p:nvGrpSpPr>
        <p:grpSpPr>
          <a:xfrm>
            <a:off x="5257800" y="1676520"/>
            <a:ext cx="2209680" cy="2209680"/>
            <a:chOff x="5257800" y="1676520"/>
            <a:chExt cx="2209680" cy="2209680"/>
          </a:xfrm>
        </p:grpSpPr>
        <p:pic>
          <p:nvPicPr>
            <p:cNvPr id="243" name="Picture 19" descr="ips070620-1LNs_Series002_z033_ch00"/>
            <p:cNvPicPr/>
            <p:nvPr/>
          </p:nvPicPr>
          <p:blipFill>
            <a:blip r:embed="rId1"/>
            <a:srcRect l="0" t="4950" r="7924" b="2974"/>
            <a:stretch/>
          </p:blipFill>
          <p:spPr>
            <a:xfrm>
              <a:off x="5257800" y="16765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6"/>
            <p:cNvSpPr/>
            <p:nvPr/>
          </p:nvSpPr>
          <p:spPr>
            <a:xfrm>
              <a:off x="7016400" y="17780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L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2"/>
          <p:cNvGrpSpPr/>
          <p:nvPr/>
        </p:nvGrpSpPr>
        <p:grpSpPr>
          <a:xfrm>
            <a:off x="1828800" y="1676520"/>
            <a:ext cx="2209680" cy="2209680"/>
            <a:chOff x="1828800" y="1676520"/>
            <a:chExt cx="2209680" cy="2209680"/>
          </a:xfrm>
        </p:grpSpPr>
        <p:pic>
          <p:nvPicPr>
            <p:cNvPr id="246" name="Picture 21" descr="ips070620-4PN_Series002_z026_ch00"/>
            <p:cNvPicPr/>
            <p:nvPr/>
          </p:nvPicPr>
          <p:blipFill>
            <a:blip r:embed="rId2"/>
            <a:srcRect l="2885" t="2885" r="10576" b="10576"/>
            <a:stretch/>
          </p:blipFill>
          <p:spPr>
            <a:xfrm>
              <a:off x="1828800" y="16765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7"/>
            <p:cNvSpPr/>
            <p:nvPr/>
          </p:nvSpPr>
          <p:spPr>
            <a:xfrm>
              <a:off x="3578400" y="1752480"/>
              <a:ext cx="38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19" descr=""/>
          <p:cNvPicPr/>
          <p:nvPr/>
        </p:nvPicPr>
        <p:blipFill>
          <a:blip r:embed="rId3"/>
          <a:srcRect l="8181" t="9803" r="22661" b="11950"/>
          <a:stretch/>
        </p:blipFill>
        <p:spPr>
          <a:xfrm>
            <a:off x="2438280" y="5105520"/>
            <a:ext cx="5943600" cy="99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"/>
          <p:cNvPicPr/>
          <p:nvPr/>
        </p:nvPicPr>
        <p:blipFill>
          <a:blip r:embed="rId4"/>
          <a:srcRect l="11960" t="7585" r="34568" b="16708"/>
          <a:stretch/>
        </p:blipFill>
        <p:spPr>
          <a:xfrm>
            <a:off x="2362320" y="4191120"/>
            <a:ext cx="5790960" cy="761760"/>
          </a:xfrm>
          <a:prstGeom prst="rect">
            <a:avLst/>
          </a:prstGeom>
          <a:ln w="0">
            <a:noFill/>
          </a:ln>
        </p:spPr>
      </p:pic>
      <p:sp>
        <p:nvSpPr>
          <p:cNvPr id="250" name="Straight Connector 22"/>
          <p:cNvSpPr/>
          <p:nvPr/>
        </p:nvSpPr>
        <p:spPr>
          <a:xfrm>
            <a:off x="4267080" y="5867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of projection neurons and local interneu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 3: MGC Network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21800" y="2089080"/>
            <a:ext cx="697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 partner: LORIA 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a: The multi-glomerular network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recognising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b: Emergence of synchrony (oscillation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Verdana"/>
              </a:rPr>
              <a:t>Task 3c: Role of 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3d: Role of inhibition in shap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3a: Recognition of blend ratios in a HH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16920" y="178452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. Zavada, D. Martinez, J.-P. Rospars and T. Nowo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2164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1447920"/>
            <a:ext cx="6153120" cy="4819680"/>
            <a:chOff x="914400" y="1447920"/>
            <a:chExt cx="6153120" cy="48196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066680" y="1447920"/>
              <a:ext cx="6000840" cy="48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14400" y="1600200"/>
              <a:ext cx="533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0320" y="1547640"/>
              <a:ext cx="3200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31520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3152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59760" y="4680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855840" y="331524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5334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in synthesis and traff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6480" y="48006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branes and ion chann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8920" y="426708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apses and neu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3960" y="37339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-population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2004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4640" y="27432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i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6200" y="2286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0240" y="182880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1828800"/>
            <a:ext cx="228600" cy="4191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9f5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828800"/>
            <a:ext cx="228600" cy="4191120"/>
          </a:xfrm>
          <a:prstGeom prst="rect">
            <a:avLst/>
          </a:prstGeom>
          <a:gradFill rotWithShape="0">
            <a:gsLst>
              <a:gs pos="0">
                <a:srgbClr val="f5ecd2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171480" y="346284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tom-up bio-chemist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85440" y="327636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-down behavio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rge scal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091400">
            <a:off x="1580760" y="3199680"/>
            <a:ext cx="63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Mistral"/>
              </a:rPr>
              <a:t>Mission Impos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erstanding how pheromone information is encoded in a “simple” bra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ultaneous recordings of several neu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terminin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espons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amin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ality Coding and Quantitativ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vestiga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oral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20840" y="392040"/>
            <a:ext cx="6923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b: Extracellular recordings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grotis ipsilon (multi-neuron cor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1600200"/>
            <a:ext cx="7467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. Chaffiol, D. Martinez and J.-P. Rosp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8610840" cy="1754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680160" y="2048040"/>
            <a:ext cx="2179800" cy="1622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20520000">
            <a:off x="7261200" y="3208320"/>
            <a:ext cx="34920" cy="104292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08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1580000">
            <a:off x="7259760" y="2090160"/>
            <a:ext cx="33120" cy="104436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31200" y="3708360"/>
            <a:ext cx="1042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. Pipett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07200" y="1650960"/>
            <a:ext cx="1042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. Pipett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42120" y="2997360"/>
            <a:ext cx="719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8160" y="2327400"/>
            <a:ext cx="6537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32760" y="2909880"/>
            <a:ext cx="727200" cy="725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64160" y="3303720"/>
            <a:ext cx="654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MG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26440" y="3094200"/>
            <a:ext cx="569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45560" y="2119320"/>
            <a:ext cx="936360" cy="72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100000">
            <a:off x="6931080" y="2922480"/>
            <a:ext cx="245880" cy="455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251460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PN ax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1752480"/>
            <a:ext cx="3657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8480"/>
                <a:tab algn="l" pos="2625840"/>
                <a:tab algn="l" pos="3281400"/>
                <a:tab algn="l" pos="3940200"/>
                <a:tab algn="l" pos="4595760"/>
                <a:tab algn="l" pos="52513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56480"/>
                <a:tab algn="l" pos="8964720"/>
                <a:tab algn="l" pos="9371160"/>
                <a:tab algn="l" pos="977904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GC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tracellular recordings of neurons sensitive to the pherom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with two glass pipett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ng-lasting recordings (&gt;1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f small populations (1 to  5 neuron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3760" y="6270480"/>
            <a:ext cx="8556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143000" y="1905120"/>
            <a:ext cx="1633680" cy="15872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ellular recordings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grotis ipsi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371600" y="1752480"/>
            <a:ext cx="6360840" cy="3117600"/>
            <a:chOff x="1371600" y="1752480"/>
            <a:chExt cx="6360840" cy="311760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6360840" cy="76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1371600" y="2439000"/>
              <a:ext cx="63608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1371600" y="3097440"/>
              <a:ext cx="63608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1371600" y="3759480"/>
              <a:ext cx="6360840" cy="111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5224320" y="163440"/>
            <a:ext cx="130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7320" y="654120"/>
            <a:ext cx="98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5410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72920" y="18288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0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65720" y="25909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360" y="32767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54920" y="39765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titativ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500364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se-response with the pheromonal 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3d: The role of inter- and intra glomerular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526080" cy="2668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648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a-glomerular inhibition: PNs are disinhibited by their preferre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-glomerular inhibition : PNs are inhibited by the non-preferre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24080" y="1676520"/>
            <a:ext cx="78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. Belmabrouk, T. Nowotny, J.-P. Rospars an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. Martine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ct pheromone blend induces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581280" cy="2921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809880" cy="2620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219320" y="4876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chronization of two PNs connected to the cumulus stimulated by the C15 (left) and the blend (righ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experi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3784680" cy="4333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53920" y="1905120"/>
            <a:ext cx="33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del predi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confirm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2057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66080" y="205740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1752480"/>
            <a:ext cx="72388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science (also) needs the “systems approach” with (at l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close combination of model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 and models that brid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severa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tch </a:t>
            </a:r>
            <a:br>
              <a:rPr sz="2400"/>
            </a:br>
            <a:r>
              <a:rPr b="0" lang="en-US" sz="2400" spc="-1" strike="noStrike" u="sng">
                <a:solidFill>
                  <a:srgbClr val="996600"/>
                </a:solidFill>
                <a:uFillTx/>
                <a:latin typeface="Verdana"/>
                <a:hlinkClick r:id="rId1"/>
              </a:rPr>
              <a:t>http://www.informatics.sussex.ac.uk/_x000b_research/pherosys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r up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romone system of mo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010280" y="1600200"/>
            <a:ext cx="1633680" cy="158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05160" y="1828800"/>
            <a:ext cx="152388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9040" y="3276720"/>
            <a:ext cx="152388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en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52920" y="4572000"/>
            <a:ext cx="152424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shro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26040" y="18288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illa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55680" y="33847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a-cellular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76920" y="373392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ra-cellular recor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5240" y="220968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0680" y="29718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1200" y="32767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9000" y="3657600"/>
            <a:ext cx="32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glomeru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(se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acro-glomerul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omplex (ratio recog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912120" y="2634120"/>
            <a:ext cx="5201640" cy="2459880"/>
            <a:chOff x="3912120" y="2634120"/>
            <a:chExt cx="5201640" cy="2459880"/>
          </a:xfrm>
        </p:grpSpPr>
        <p:sp>
          <p:nvSpPr>
            <p:cNvPr id="133" name=""/>
            <p:cNvSpPr/>
            <p:nvPr/>
          </p:nvSpPr>
          <p:spPr>
            <a:xfrm rot="2418600">
              <a:off x="3929040" y="2819520"/>
              <a:ext cx="685800" cy="304560"/>
            </a:xfrm>
            <a:prstGeom prst="rightArrow">
              <a:avLst>
                <a:gd name="adj1" fmla="val 49676"/>
                <a:gd name="adj2" fmla="val 78353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418600">
              <a:off x="5452560" y="4114800"/>
              <a:ext cx="685800" cy="304920"/>
            </a:xfrm>
            <a:prstGeom prst="rightArrow">
              <a:avLst>
                <a:gd name="adj1" fmla="val 49676"/>
                <a:gd name="adj2" fmla="val 78261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53120" y="4648320"/>
              <a:ext cx="685800" cy="304560"/>
            </a:xfrm>
            <a:prstGeom prst="rightArrow">
              <a:avLst>
                <a:gd name="adj1" fmla="val 49676"/>
                <a:gd name="adj2" fmla="val 78353"/>
              </a:avLst>
            </a:prstGeom>
            <a:solidFill>
              <a:srgbClr val="00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29640" y="445140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-mot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101400" y="2194920"/>
            <a:ext cx="2636280" cy="2391840"/>
            <a:chOff x="3101400" y="2194920"/>
            <a:chExt cx="2636280" cy="2391840"/>
          </a:xfrm>
        </p:grpSpPr>
        <p:sp>
          <p:nvSpPr>
            <p:cNvPr id="138" name=""/>
            <p:cNvSpPr/>
            <p:nvPr/>
          </p:nvSpPr>
          <p:spPr>
            <a:xfrm rot="20073600">
              <a:off x="3124080" y="2438280"/>
              <a:ext cx="1219320" cy="381240"/>
            </a:xfrm>
            <a:prstGeom prst="leftRightArrow">
              <a:avLst>
                <a:gd name="adj1" fmla="val 50000"/>
                <a:gd name="adj2" fmla="val 6367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73600">
              <a:off x="4495680" y="3962520"/>
              <a:ext cx="1219320" cy="380880"/>
            </a:xfrm>
            <a:prstGeom prst="leftRightArrow">
              <a:avLst>
                <a:gd name="adj1" fmla="val 50000"/>
                <a:gd name="adj2" fmla="val 6373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064680" y="2090520"/>
            <a:ext cx="2633760" cy="2218680"/>
            <a:chOff x="3064680" y="2090520"/>
            <a:chExt cx="2633760" cy="2218680"/>
          </a:xfrm>
        </p:grpSpPr>
        <p:sp>
          <p:nvSpPr>
            <p:cNvPr id="141" name=""/>
            <p:cNvSpPr/>
            <p:nvPr/>
          </p:nvSpPr>
          <p:spPr>
            <a:xfrm rot="13622400">
              <a:off x="3009600" y="3542760"/>
              <a:ext cx="1219320" cy="380880"/>
            </a:xfrm>
            <a:prstGeom prst="leftRightArrow">
              <a:avLst>
                <a:gd name="adj1" fmla="val 50000"/>
                <a:gd name="adj2" fmla="val 6373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622400">
              <a:off x="4533480" y="2475720"/>
              <a:ext cx="1219320" cy="381240"/>
            </a:xfrm>
            <a:prstGeom prst="leftRightArrow">
              <a:avLst>
                <a:gd name="adj1" fmla="val 50000"/>
                <a:gd name="adj2" fmla="val 6367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eme 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eme specificity – to a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ble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 of oscillations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we find good (optimal?) coding strateg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720" y="1828800"/>
            <a:ext cx="189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T. Nowotny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A. Zavada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C. L. Buck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352680"/>
            <a:ext cx="2971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J. P. Rosp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. S. Ant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. P. Lucas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S. Elbanna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Dr. A. Chaffi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. Y. Gu, Dr. R. Barrozo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. M. Graus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. Brochet-Couton, D. Jarriaul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68520" y="437364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. D. Martinez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H. Belmabro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. Grémi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5365800" cy="223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71600" y="185904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esy of Googl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362320"/>
            <a:ext cx="99036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0480" y="312408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ntennal input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antennal lob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4680" y="32767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gle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0" y="327672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GC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9120" y="39625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RA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8120" y="396252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CNR Sus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6400" y="396252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 partn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RIA 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50480" y="502920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artners have tasks in all work pac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990720" y="304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WP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.  Antennal Input to the Antennal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4"/>
          <p:cNvSpPr/>
          <p:nvPr/>
        </p:nvSpPr>
        <p:spPr>
          <a:xfrm>
            <a:off x="1734480" y="2514600"/>
            <a:ext cx="62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a: Single ORN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b: Population of 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ask 1c: Projection of ORN and MGC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752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ader: INRA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55436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oneTexte 3"/>
          <p:cNvSpPr/>
          <p:nvPr/>
        </p:nvSpPr>
        <p:spPr>
          <a:xfrm>
            <a:off x="1371600" y="457200"/>
            <a:ext cx="56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ask 1a: Single ORN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528720" cy="342108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6"/>
          <p:cNvSpPr/>
          <p:nvPr/>
        </p:nvSpPr>
        <p:spPr>
          <a:xfrm>
            <a:off x="1371600" y="426708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al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Stimulu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 Receptor potential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 Action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981080"/>
            <a:ext cx="32004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im: Modelling single ORN responses based on 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cellula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Y. Gu (postdoc), P. Lucas, J.-P. Rosp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0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Modelling of cellular proces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Gu et al - Fig 3"/>
          <p:cNvPicPr/>
          <p:nvPr/>
        </p:nvPicPr>
        <p:blipFill>
          <a:blip r:embed="rId1"/>
          <a:stretch/>
        </p:blipFill>
        <p:spPr>
          <a:xfrm>
            <a:off x="1371600" y="1752480"/>
            <a:ext cx="5286240" cy="248940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7"/>
          <p:cNvSpPr/>
          <p:nvPr/>
        </p:nvSpPr>
        <p:spPr>
          <a:xfrm>
            <a:off x="121932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timulu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Recepto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G protein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ffecto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second messenge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Ionic channel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ionic current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Recepto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1:50:20Z</dcterms:created>
  <dc:creator>Thomas</dc:creator>
  <dc:description/>
  <dc:language>en-US</dc:language>
  <cp:lastModifiedBy>Thomas</cp:lastModifiedBy>
  <dcterms:modified xsi:type="dcterms:W3CDTF">2008-12-16T00:38:58Z</dcterms:modified>
  <cp:revision>17</cp:revision>
  <dc:subject/>
  <dc:title>Olfactory Coding in the Insect Pheromone Pathway</dc:title>
</cp:coreProperties>
</file>